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D40-E0F5-40C3-844B-F9911A5B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A8A-42D8-4513-98AC-573B0AB7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586-F176-4677-9CF4-23DB4329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896-5D7C-4A83-8DC9-A3084F48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3D0-1B44-4B58-BFAB-C8F57944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BB6-703D-4B39-9EED-12688141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9FB-346B-4DAA-B9DF-2BAE961D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8B8-25C3-4065-ACAF-73BEFA10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544-4BFF-4999-8E01-3F4A702B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1CC-C3F6-45A7-9991-A3389DB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0DD-90B9-4D41-ADC4-D71ED40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AD6-7711-446B-AE18-1DBDF05E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D908-281F-492A-87F9-9E6CD2D77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bemarle.ed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2280" y="228600"/>
            <a:ext cx="6629400" cy="338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utch Boyk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80880" y="4495680"/>
            <a:ext cx="3810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012-20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80880" y="3048120"/>
            <a:ext cx="34290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Landscap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Picture 7" descr="logo_normal"/>
          <p:cNvPicPr/>
          <p:nvPr/>
        </p:nvPicPr>
        <p:blipFill>
          <a:blip r:embed="rId1"/>
          <a:stretch/>
        </p:blipFill>
        <p:spPr>
          <a:xfrm>
            <a:off x="4419720" y="4110120"/>
            <a:ext cx="4724280" cy="2347920"/>
          </a:xfrm>
          <a:prstGeom prst="rect">
            <a:avLst/>
          </a:prstGeom>
          <a:ln w="0">
            <a:noFill/>
          </a:ln>
        </p:spPr>
      </p:pic>
      <p:sp>
        <p:nvSpPr>
          <p:cNvPr id="45" name="Sun 1"/>
          <p:cNvSpPr/>
          <p:nvPr/>
        </p:nvSpPr>
        <p:spPr>
          <a:xfrm>
            <a:off x="7315200" y="76320"/>
            <a:ext cx="1600200" cy="1484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738760" y="643428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rfworksland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ges I May Atte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llege of The Albemarle">
            <a:hlinkClick r:id="rId1"/>
          </p:cNvPr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1527120"/>
            <a:ext cx="8839080" cy="229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sliderblock_subpage_ric"/>
          <p:cNvPicPr/>
          <p:nvPr/>
        </p:nvPicPr>
        <p:blipFill>
          <a:blip r:embed="rId3"/>
          <a:stretch/>
        </p:blipFill>
        <p:spPr>
          <a:xfrm>
            <a:off x="0" y="449892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0" name="Sun 1"/>
          <p:cNvSpPr/>
          <p:nvPr/>
        </p:nvSpPr>
        <p:spPr>
          <a:xfrm>
            <a:off x="7696080" y="380880"/>
            <a:ext cx="1143000" cy="99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ing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trees"/>
          <p:cNvPicPr/>
          <p:nvPr/>
        </p:nvPicPr>
        <p:blipFill>
          <a:blip r:embed="rId1"/>
          <a:stretch/>
        </p:blipFill>
        <p:spPr>
          <a:xfrm>
            <a:off x="0" y="3956040"/>
            <a:ext cx="9144000" cy="290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7200" y="1600200"/>
          <a:ext cx="8229600" cy="4584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kind of experiences was required for this job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personality traits are important for this job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kind of technical knowledge is required for this job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type of training is required for this job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Sun 1"/>
          <p:cNvSpPr/>
          <p:nvPr/>
        </p:nvSpPr>
        <p:spPr>
          <a:xfrm>
            <a:off x="7772400" y="380880"/>
            <a:ext cx="1219320" cy="1067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within Landsca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-12600" y="1268280"/>
            <a:ext cx="4792680" cy="32911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4144680" cy="287676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5" descr=""/>
          <p:cNvPicPr/>
          <p:nvPr/>
        </p:nvPicPr>
        <p:blipFill>
          <a:blip r:embed="rId3"/>
          <a:stretch/>
        </p:blipFill>
        <p:spPr>
          <a:xfrm>
            <a:off x="5114880" y="1311120"/>
            <a:ext cx="3791160" cy="220032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6" descr=""/>
          <p:cNvPicPr/>
          <p:nvPr/>
        </p:nvPicPr>
        <p:blipFill>
          <a:blip r:embed="rId4"/>
          <a:stretch/>
        </p:blipFill>
        <p:spPr>
          <a:xfrm>
            <a:off x="0" y="4479840"/>
            <a:ext cx="5937120" cy="2536920"/>
          </a:xfrm>
          <a:prstGeom prst="rect">
            <a:avLst/>
          </a:prstGeom>
          <a:ln w="0">
            <a:noFill/>
          </a:ln>
        </p:spPr>
      </p:pic>
      <p:sp>
        <p:nvSpPr>
          <p:cNvPr id="61" name="Sun 3"/>
          <p:cNvSpPr/>
          <p:nvPr/>
        </p:nvSpPr>
        <p:spPr>
          <a:xfrm>
            <a:off x="7924680" y="304920"/>
            <a:ext cx="1141560" cy="99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C:\Documents and Settings\DCSUSER\Local Settings\Temporary Internet Files\Content.IE5\LY79NAYK\MC900441753[1].png"/>
          <p:cNvPicPr/>
          <p:nvPr/>
        </p:nvPicPr>
        <p:blipFill>
          <a:blip r:embed="rId5"/>
          <a:stretch/>
        </p:blipFill>
        <p:spPr>
          <a:xfrm>
            <a:off x="3505320" y="17622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:\Documents and Settings\DCSUSER\Local Settings\Temporary Internet Files\Content.IE5\LY79NAYK\MC900151967[1].wmf"/>
          <p:cNvPicPr/>
          <p:nvPr/>
        </p:nvPicPr>
        <p:blipFill>
          <a:blip r:embed="rId6"/>
          <a:stretch/>
        </p:blipFill>
        <p:spPr>
          <a:xfrm rot="1298400">
            <a:off x="468000" y="3225960"/>
            <a:ext cx="64908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Documents and Settings\DCSUSER\Local Settings\Temporary Internet Files\Content.IE5\1S7DAHN3\MC900335380[1].wmf"/>
          <p:cNvPicPr/>
          <p:nvPr/>
        </p:nvPicPr>
        <p:blipFill>
          <a:blip r:embed="rId7"/>
          <a:stretch/>
        </p:blipFill>
        <p:spPr>
          <a:xfrm rot="364800">
            <a:off x="7083360" y="3059280"/>
            <a:ext cx="1808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ject is going to show you how landscaping is a technical and very complicated job for people all arou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447920" y="2602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6:20:18Z</dcterms:created>
  <dc:creator>dcsuser</dc:creator>
  <dc:description/>
  <dc:language>en-US</dc:language>
  <cp:lastModifiedBy>Board of Education</cp:lastModifiedBy>
  <dcterms:modified xsi:type="dcterms:W3CDTF">2012-02-16T16:51:47Z</dcterms:modified>
  <cp:revision>21</cp:revision>
  <dc:subject/>
  <dc:title>Slide 1</dc:title>
</cp:coreProperties>
</file>